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7A3-86C0-49CB-A573-0A60EEB4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610-A84D-41CC-9C00-3AD9CD95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44B-117A-4620-95BA-749AB2CB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1D8-E094-46EE-BDFF-6AF69EB6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7FE-EEE6-4115-8AA2-DA1FFE8A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ABA-851C-4CD0-8336-7ACFAF40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0D6-0E15-4C71-8549-3B247715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C18-898D-4BC7-AB6F-FDD3F44B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6A9-B70C-43A5-B25E-20A09EE5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7F7-3E6F-41A5-941D-CCE0DF9F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0AC-8BB8-4CE3-BE43-AB492379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26D-4D15-4FE4-90BE-B2279A67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FDC3-CD96-4D12-A05A-37622E31E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959200">
            <a:off x="2987640" y="1267920"/>
            <a:ext cx="1366920" cy="12351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44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45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 rot="20403600">
            <a:off x="3058920" y="2565360"/>
            <a:ext cx="2016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78" name=""/>
          <p:cNvSpPr/>
          <p:nvPr/>
        </p:nvSpPr>
        <p:spPr>
          <a:xfrm>
            <a:off x="280836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0" y="5734080"/>
            <a:ext cx="180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orte"/>
              </a:rPr>
              <a:t>Pla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 rot="20959200">
            <a:off x="5286240" y="2355480"/>
            <a:ext cx="1366920" cy="123516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83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84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692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n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 rot="20403600">
            <a:off x="2916000" y="2205000"/>
            <a:ext cx="2016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692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75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122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123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1280" y="69228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n front of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20403600">
            <a:off x="2916000" y="2205000"/>
            <a:ext cx="2016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692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20959200">
            <a:off x="4932000" y="4005000"/>
            <a:ext cx="1366920" cy="123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5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162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79640" y="62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under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 rot="20403600">
            <a:off x="2771280" y="1989000"/>
            <a:ext cx="2016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198" name=""/>
          <p:cNvSpPr/>
          <p:nvPr/>
        </p:nvSpPr>
        <p:spPr>
          <a:xfrm>
            <a:off x="2484360" y="54936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 rot="205200">
            <a:off x="4716360" y="5622840"/>
            <a:ext cx="13669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50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640" y="62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behind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 rot="20403600">
            <a:off x="2771280" y="1989000"/>
            <a:ext cx="2016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2064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rot="20353200">
            <a:off x="3492000" y="2997000"/>
            <a:ext cx="13669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215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216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750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79640" y="62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next to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 rot="20403600">
            <a:off x="2771640" y="1916280"/>
            <a:ext cx="20163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252" name=""/>
          <p:cNvSpPr/>
          <p:nvPr/>
        </p:nvSpPr>
        <p:spPr>
          <a:xfrm>
            <a:off x="2484360" y="76500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254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255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777080" y="3213000"/>
            <a:ext cx="13669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750"/>
                            </p:stCondLst>
                            <p:childTnLst>
                              <p:par>
                                <p:cTn id="3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79640" y="62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on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 rot="20403600">
            <a:off x="2771640" y="1773360"/>
            <a:ext cx="20163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292" name=""/>
          <p:cNvSpPr/>
          <p:nvPr/>
        </p:nvSpPr>
        <p:spPr>
          <a:xfrm>
            <a:off x="2484360" y="62064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294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295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13669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5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750"/>
                            </p:stCondLst>
                            <p:childTnLst>
                              <p:par>
                                <p:cTn id="4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79640" y="62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bove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 rot="20403600">
            <a:off x="2771640" y="1916280"/>
            <a:ext cx="20163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332" name=""/>
          <p:cNvSpPr/>
          <p:nvPr/>
        </p:nvSpPr>
        <p:spPr>
          <a:xfrm>
            <a:off x="2411280" y="620640"/>
            <a:ext cx="63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334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335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 rot="630000">
            <a:off x="7776720" y="260280"/>
            <a:ext cx="13669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500"/>
                            </p:stCondLst>
                            <p:childTnLst>
                              <p:par>
                                <p:cTn id="5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71640" y="476280"/>
            <a:ext cx="360360" cy="5977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977080"/>
              <a:gd name="textAreaBottom" fmla="*/ 5959800 h 5977080"/>
            </a:gdLst>
            <a:ahLst/>
            <a:rect l="textAreaLeft" t="textAreaTop" r="textAreaRight" b="textAreaBottom"/>
            <a:pathLst>
              <a:path w="21600" h="357931">
                <a:moveTo>
                  <a:pt x="3600" y="0"/>
                </a:moveTo>
                <a:arcTo wR="3600" hR="3600" stAng="16200000" swAng="-5400000"/>
                <a:lnTo>
                  <a:pt x="0" y="354331"/>
                </a:lnTo>
                <a:arcTo wR="3600" hR="3600" stAng="10800000" swAng="-5400000"/>
                <a:lnTo>
                  <a:pt x="18000" y="357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5280" y="6206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5280" y="13413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0800000">
            <a:off x="395280" y="206028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5280" y="277956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350028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Rounded MT Bold"/>
              </a:rPr>
              <a:t>IN FRONT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0800000">
            <a:off x="395280" y="4222440"/>
            <a:ext cx="2016000" cy="649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494172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5662440"/>
            <a:ext cx="2016000" cy="6494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6000" y="333360"/>
            <a:ext cx="62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It’s </a:t>
            </a: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between </a:t>
            </a: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the wheels of the j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 rot="20403600">
            <a:off x="2843280" y="2276640"/>
            <a:ext cx="20160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orte"/>
              </a:rPr>
              <a:t>Bip-Bip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orte"/>
              <a:ea typeface="Forte"/>
            </a:endParaRPr>
          </a:p>
        </p:txBody>
      </p:sp>
      <p:sp>
        <p:nvSpPr>
          <p:cNvPr id="372" name=""/>
          <p:cNvSpPr/>
          <p:nvPr/>
        </p:nvSpPr>
        <p:spPr>
          <a:xfrm>
            <a:off x="2484360" y="69228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Rounded MT Bold"/>
              </a:rPr>
              <a:t>Where’s the butter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556000" y="1699920"/>
            <a:ext cx="6192000" cy="4608000"/>
            <a:chOff x="2556000" y="1699920"/>
            <a:chExt cx="6192000" cy="4608000"/>
          </a:xfrm>
        </p:grpSpPr>
        <p:grpSp>
          <p:nvGrpSpPr>
            <p:cNvPr id="374" name=""/>
            <p:cNvGrpSpPr/>
            <p:nvPr/>
          </p:nvGrpSpPr>
          <p:grpSpPr>
            <a:xfrm>
              <a:off x="2556000" y="1699920"/>
              <a:ext cx="6192000" cy="4608000"/>
              <a:chOff x="2556000" y="1699920"/>
              <a:chExt cx="6192000" cy="4608000"/>
            </a:xfrm>
          </p:grpSpPr>
          <p:sp>
            <p:nvSpPr>
              <p:cNvPr id="375" name=""/>
              <p:cNvSpPr/>
              <p:nvPr/>
            </p:nvSpPr>
            <p:spPr>
              <a:xfrm>
                <a:off x="8232480" y="4128840"/>
                <a:ext cx="515520" cy="250920"/>
              </a:xfrm>
              <a:prstGeom prst="flowChartDisp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57640" y="1868400"/>
                <a:ext cx="1461960" cy="2511360"/>
              </a:xfrm>
              <a:prstGeom prst="rect">
                <a:avLst/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200720" y="2119320"/>
                <a:ext cx="773640" cy="1508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00"/>
                    </a:solidFill>
                    <a:latin typeface="Forte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99520" y="1868400"/>
                <a:ext cx="257760" cy="2093760"/>
              </a:xfrm>
              <a:prstGeom prst="rect">
                <a:avLst/>
              </a:prstGeom>
              <a:solidFill>
                <a:srgbClr val="009999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813760" y="3794400"/>
                <a:ext cx="5590800" cy="1757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480280" y="1868400"/>
                <a:ext cx="11188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4791960" y="1868400"/>
                <a:ext cx="688320" cy="192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27080" y="4213800"/>
                <a:ext cx="2150280" cy="20941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28840" y="4588560"/>
                <a:ext cx="1377000" cy="13406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287840" y="503532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7280" y="3794400"/>
                <a:ext cx="0" cy="15915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361400" y="5386320"/>
                <a:ext cx="2065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41320" y="4631040"/>
                <a:ext cx="1806840" cy="167472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45240" y="5009760"/>
                <a:ext cx="1031760" cy="921240"/>
              </a:xfrm>
              <a:prstGeom prst="ellipse">
                <a:avLst/>
              </a:prstGeom>
              <a:solidFill>
                <a:srgbClr val="c0c0c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30000" y="5231160"/>
                <a:ext cx="430200" cy="419040"/>
              </a:xfrm>
              <a:prstGeom prst="ellipse">
                <a:avLst/>
              </a:prstGeom>
              <a:solidFill>
                <a:srgbClr val="80808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556000" y="4296600"/>
                <a:ext cx="428760" cy="419040"/>
              </a:xfrm>
              <a:prstGeom prst="flowChartDelay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6815880" y="364320"/>
                <a:ext cx="168120" cy="2839320"/>
              </a:xfrm>
              <a:prstGeom prst="flowChartDelay">
                <a:avLst/>
              </a:prstGeom>
              <a:solidFill>
                <a:srgbClr val="ffcc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049720" y="3962520"/>
                <a:ext cx="430200" cy="8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5400000">
                <a:off x="5222880" y="3871800"/>
                <a:ext cx="82800" cy="43020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 rot="16200000">
                <a:off x="7208280" y="3353400"/>
                <a:ext cx="502200" cy="172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 rot="16868400">
                <a:off x="3593880" y="3774240"/>
                <a:ext cx="50220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2" y="855"/>
                      <a:pt x="4764" y="5080"/>
                      <a:pt x="4764" y="10800"/>
                    </a:cubicBezTo>
                    <a:cubicBezTo>
                      <a:pt x="4764" y="16520"/>
                      <a:pt x="13182" y="2074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 flipV="1">
              <a:off x="4833720" y="3417480"/>
              <a:ext cx="603360" cy="33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08200" y="3207600"/>
              <a:ext cx="257760" cy="4190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6877080" y="5013360"/>
            <a:ext cx="144000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80000" y="4581360"/>
            <a:ext cx="1297080" cy="360360"/>
          </a:xfrm>
          <a:prstGeom prst="uturnArrow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067280" y="4581360"/>
            <a:ext cx="1295280" cy="360360"/>
          </a:xfrm>
          <a:prstGeom prst="uturnArrow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 rot="630000">
            <a:off x="4858920" y="4941720"/>
            <a:ext cx="13669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8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9750"/>
                            </p:stCondLst>
                            <p:childTnLst>
                              <p:par>
                                <p:cTn id="5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0:46:08Z</dcterms:created>
  <dc:creator>nocas</dc:creator>
  <dc:description/>
  <dc:language>en-US</dc:language>
  <cp:lastModifiedBy>nocas</cp:lastModifiedBy>
  <dcterms:modified xsi:type="dcterms:W3CDTF">2009-07-26T11:46:38Z</dcterms:modified>
  <cp:revision>4</cp:revision>
  <dc:subject/>
  <dc:title>Diapositivo 1</dc:title>
</cp:coreProperties>
</file>